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8AF-7834-447B-BEC6-57F34948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CC-559E-4732-8A4D-729EDCC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B07-0F66-497F-9163-B390724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9F4-2540-46D4-BFD6-555B8759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75A0-8524-4FB8-8DD4-C69CF2C4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F68-2211-4D5B-8493-7735D1E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A6F-8BF1-414C-A780-F24E5E0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5366-AA88-41EE-A5E8-6B354289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980E-4339-4642-9D63-4D7AE510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3BBA-5EA0-4E53-A861-B44A472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21A-1598-441E-8BB9-0307821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0D0-6E0B-4517-9466-0D3ABFA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96A-F587-401C-A457-4F1E3BF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98E4-4DA9-49F6-B78B-CB7678D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B059-B5D9-40E5-8396-B8806D3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2C9A-28EF-4D0A-81BA-2060354F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A372-5AA8-48AF-B7A0-E5FE3E6E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A6C-E04E-42CA-9F0F-FE04E2D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90A-537D-4E04-AE7D-F5807E29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6BE-91C4-4D55-BCD9-DE80A7E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404-3B12-40A5-B5B1-41199E2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77E-E29C-4BAE-B9F5-A71285D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032-2017-4519-A12D-624A37C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A1C-887C-4C62-976A-910027EA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36B-7DBB-4E38-8325-F5461C6FB3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852E-F086-4BDB-8DD6-BB91574BDB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natomy &amp; Physiolog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pter 1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Introduction to Anatomy &amp; Physi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OSS ANATO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oss Anatom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.k.a. macroscopic anatom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s features visible with the unaided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rface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udy of general form and superficial mar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gional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icial and internal features in a specific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ic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of the major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CROSCOPIC ANATO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croscopic Anatom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s that can’t be seen without magn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yt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alyzes the internal structure of individual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ist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ines tiss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uman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ll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al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stemic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thological physiology (patholog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man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functions of the human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functions of living ce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ludes events at the chemical and molecular leve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mical processes within cells and between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physiology of specific org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cardiac physiology (heart functio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ic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s of specific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reproductive physiolo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thological Physiology (Patholog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tudy of the effects of diseases on organ or system fun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thos = dise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s built on successive levels of increasing complexi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(or Molecul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or Molecular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mallest stable units of matter, combine to form molecules with complex sha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ular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molecules can interact to form larger structures, each type of which has a specific function in a c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ssu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issue is composed of similar cells working together to perform a specific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heart muscle cells form cardiac muscle tissu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rgan consists of two or more different tissues working together to perform specific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the heart which is composed of cardiac muscle and other tiss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System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interact in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the heart, blood vessels, and blood form the cardiovascular syst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m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of the organ systems of the body work together to maintain life and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Human be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36340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 the basic functions of living organis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anatomy and physiology, and describe the various specialties within each discip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major levels of organization in living organis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organ systems of the human body and the major components of each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lain the significance of homeost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 how negative and positive feedback is involved in homeostatic reg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natomical terms to describe body sections, body regions, and relative 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major body cavities and its subdiv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6360" y="379440"/>
            <a:ext cx="8529840" cy="637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E 1-1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73160" y="730080"/>
            <a:ext cx="1441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2840" y="514440"/>
            <a:ext cx="2832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s 5–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6160" y="3403440"/>
            <a:ext cx="99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85080" y="4464000"/>
            <a:ext cx="1879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ssu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5502240"/>
            <a:ext cx="1879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llular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200" y="5578560"/>
            <a:ext cx="2317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emical 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lecular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48040" y="1652760"/>
            <a:ext cx="57600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19360" y="1523880"/>
            <a:ext cx="415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ele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3080" y="1436760"/>
            <a:ext cx="4161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62480" y="1362240"/>
            <a:ext cx="41580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297080"/>
            <a:ext cx="41580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0160" y="1247760"/>
            <a:ext cx="7477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8400" y="1297080"/>
            <a:ext cx="4161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ymphat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9760" y="136224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9680" y="143676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7560" y="153684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rina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8920" y="1657440"/>
            <a:ext cx="53820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6960" y="3963960"/>
            <a:ext cx="2797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8880" y="4626000"/>
            <a:ext cx="35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0800" y="5522760"/>
            <a:ext cx="352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7760" y="5891040"/>
            <a:ext cx="6267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rotein fila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54280" y="5632560"/>
            <a:ext cx="631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plex prote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16280" y="4835520"/>
            <a:ext cx="631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oms 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 Sy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ety of physiological mechanisms act to prevent potentially dangerous changes in the environment inside the bo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omeosta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existence of a stable in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eded to surv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 Sy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e are 11 organ sys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tegumentary; (2) skeletal; (3) muscular; (4) nervous; (5) endocrine; (6) cardiovascular; (7) lymphatic; (8) respiratory; (9) digestive; (10) urinary; (11) reprodu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24080" y="379440"/>
            <a:ext cx="4694400" cy="6377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48000" y="36180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E 1-2a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8000" y="1467000"/>
            <a:ext cx="2826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dermi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2360" y="399420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0200" y="59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30160" y="596880"/>
            <a:ext cx="663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4520" y="163188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266920" y="3641400"/>
            <a:ext cx="173376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648320"/>
            <a:ext cx="22096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gu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gumenta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gumentary system protects against environmental hazards; helps control body temp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89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umentary System Compon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352680" y="1676520"/>
          <a:ext cx="5639040" cy="4686120"/>
        </p:xfrm>
        <a:graphic>
          <a:graphicData uri="http://schemas.openxmlformats.org/drawingml/2006/table">
            <a:tbl>
              <a:tblPr/>
              <a:tblGrid>
                <a:gridCol w="2467080"/>
                <a:gridCol w="3171960"/>
              </a:tblGrid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taneo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Epider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Der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ir Foll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Sebacceous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at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sory Recep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cutaneous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01_02b-OrgSysSkeletal_L.jpg"/>
          <p:cNvPicPr/>
          <p:nvPr/>
        </p:nvPicPr>
        <p:blipFill>
          <a:blip r:embed="rId1"/>
          <a:stretch/>
        </p:blipFill>
        <p:spPr>
          <a:xfrm>
            <a:off x="1676520" y="609480"/>
            <a:ext cx="7257960" cy="5486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449568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keletal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keletal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support; protects tissues; stores minerals; forms bl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243828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Skeletal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43200" y="1981080"/>
          <a:ext cx="6095880" cy="4052880"/>
        </p:xfrm>
        <a:graphic>
          <a:graphicData uri="http://schemas.openxmlformats.org/drawingml/2006/table">
            <a:tbl>
              <a:tblPr/>
              <a:tblGrid>
                <a:gridCol w="2476440"/>
                <a:gridCol w="361944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es, cartilages, and j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Axial Skeleton (skull, vertebrae, ribs, sternum, sacrum, cartilages, and liga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Appendicular Skeleton (limbs and supporting bones and liga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e M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01_02cOrgSysMuscular_L.jpg"/>
          <p:cNvPicPr/>
          <p:nvPr/>
        </p:nvPicPr>
        <p:blipFill>
          <a:blip r:embed="rId1"/>
          <a:stretch/>
        </p:blipFill>
        <p:spPr>
          <a:xfrm>
            <a:off x="3505320" y="533520"/>
            <a:ext cx="5319720" cy="5481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4267080"/>
            <a:ext cx="281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uscula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living organisms share the following characteristic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uscular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ows for locomotion; provides support; produces he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221148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Muscular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29000" y="1827360"/>
          <a:ext cx="5254560" cy="3157560"/>
        </p:xfrm>
        <a:graphic>
          <a:graphicData uri="http://schemas.openxmlformats.org/drawingml/2006/table">
            <a:tbl>
              <a:tblPr/>
              <a:tblGrid>
                <a:gridCol w="2627280"/>
                <a:gridCol w="262728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keletal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al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endicular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d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01_02dOrgSysNervous_L.jpg"/>
          <p:cNvPicPr/>
          <p:nvPr/>
        </p:nvPicPr>
        <p:blipFill>
          <a:blip r:embed="rId1"/>
          <a:stretch/>
        </p:blipFill>
        <p:spPr>
          <a:xfrm>
            <a:off x="3886200" y="609480"/>
            <a:ext cx="4789440" cy="5481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4038480"/>
            <a:ext cx="304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Nervous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ervous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s immediate response to stimuli, usually by coordinating the activities of other organ syst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236376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Nervous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00400" y="1828800"/>
          <a:ext cx="5562720" cy="3733920"/>
        </p:xfrm>
        <a:graphic>
          <a:graphicData uri="http://schemas.openxmlformats.org/drawingml/2006/table">
            <a:tbl>
              <a:tblPr/>
              <a:tblGrid>
                <a:gridCol w="2625840"/>
                <a:gridCol w="2936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Nervous System (C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nal 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ipheral Nervous System (P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01_02eOrgSysEndocrine_L.jpg"/>
          <p:cNvPicPr/>
          <p:nvPr/>
        </p:nvPicPr>
        <p:blipFill>
          <a:blip r:embed="rId1"/>
          <a:stretch/>
        </p:blipFill>
        <p:spPr>
          <a:xfrm>
            <a:off x="3657600" y="685800"/>
            <a:ext cx="5018040" cy="5484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41148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ndocrin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ndocrin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s long-term changes in activities of other organ syst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25164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nents of the Endocrine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1752480"/>
          <a:ext cx="5410080" cy="4424400"/>
        </p:xfrm>
        <a:graphic>
          <a:graphicData uri="http://schemas.openxmlformats.org/drawingml/2006/table">
            <a:tbl>
              <a:tblPr/>
              <a:tblGrid>
                <a:gridCol w="2629080"/>
                <a:gridCol w="27810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neal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tuitary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roid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thyroid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renal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dne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n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01_02fOrgSysCardiovasclr_L.jpg"/>
          <p:cNvPicPr/>
          <p:nvPr/>
        </p:nvPicPr>
        <p:blipFill>
          <a:blip r:embed="rId1"/>
          <a:stretch/>
        </p:blipFill>
        <p:spPr>
          <a:xfrm>
            <a:off x="4724280" y="762120"/>
            <a:ext cx="3884760" cy="5491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396252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Cardiovascula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ardiovascular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sports cells and dissolved materials, including nutrients, wastes, and ga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respond to changes in their immediate environment (a.k.a. irritabilit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 move hand away from hot st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19520" y="2057400"/>
          <a:ext cx="5943240" cy="3733560"/>
        </p:xfrm>
        <a:graphic>
          <a:graphicData uri="http://schemas.openxmlformats.org/drawingml/2006/table">
            <a:tbl>
              <a:tblPr/>
              <a:tblGrid>
                <a:gridCol w="2972520"/>
                <a:gridCol w="2970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 Vess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il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8600" y="297180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onents of the Cardiovascular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01_02gOrgSysLymphatic_L.jpg"/>
          <p:cNvPicPr/>
          <p:nvPr/>
        </p:nvPicPr>
        <p:blipFill>
          <a:blip r:embed="rId1"/>
          <a:stretch/>
        </p:blipFill>
        <p:spPr>
          <a:xfrm>
            <a:off x="4495680" y="609480"/>
            <a:ext cx="4251600" cy="549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9480" y="373392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Lymphatic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ymphatic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ends against infections and disease, returns tissue fluid to the bloodstrea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22878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Lymphatic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00400" y="1981080"/>
          <a:ext cx="5181480" cy="3978360"/>
        </p:xfrm>
        <a:graphic>
          <a:graphicData uri="http://schemas.openxmlformats.org/drawingml/2006/table">
            <a:tbl>
              <a:tblPr/>
              <a:tblGrid>
                <a:gridCol w="2476440"/>
                <a:gridCol w="2705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mphatic Vess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mph N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l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01_02hOrgSysRespiratory_L.jpg"/>
          <p:cNvPicPr/>
          <p:nvPr/>
        </p:nvPicPr>
        <p:blipFill>
          <a:blip r:embed="rId1"/>
          <a:stretch/>
        </p:blipFill>
        <p:spPr>
          <a:xfrm>
            <a:off x="4648320" y="914400"/>
            <a:ext cx="3967200" cy="5483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3886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spiratory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pirato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livers air to sites where gas exchange can occur between the air and circulating bloo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66832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Respiratory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00400" y="1981080"/>
          <a:ext cx="5029200" cy="4229280"/>
        </p:xfrm>
        <a:graphic>
          <a:graphicData uri="http://schemas.openxmlformats.org/drawingml/2006/table">
            <a:tbl>
              <a:tblPr/>
              <a:tblGrid>
                <a:gridCol w="2552760"/>
                <a:gridCol w="24764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al Cavities, Paranasal Sin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h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n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ve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01_02iOrgSysDigestive_L.jpg"/>
          <p:cNvPicPr/>
          <p:nvPr/>
        </p:nvPicPr>
        <p:blipFill>
          <a:blip r:embed="rId1"/>
          <a:stretch/>
        </p:blipFill>
        <p:spPr>
          <a:xfrm>
            <a:off x="3809880" y="609480"/>
            <a:ext cx="4881600" cy="5489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3962520"/>
            <a:ext cx="2590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Diges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Digestiv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es food and absorbs nutri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25160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Diges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00400" y="1828800"/>
          <a:ext cx="5334120" cy="4129200"/>
        </p:xfrm>
        <a:graphic>
          <a:graphicData uri="http://schemas.openxmlformats.org/drawingml/2006/table">
            <a:tbl>
              <a:tblPr/>
              <a:tblGrid>
                <a:gridCol w="2854440"/>
                <a:gridCol w="24796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vary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ophag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m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 a lifetime, organisms increase in size through the growth of cel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gle celled organisms get bigger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cellular organisms grow by increasing the number of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01_02jOrgSysUrinary_L.jpg"/>
          <p:cNvPicPr/>
          <p:nvPr/>
        </p:nvPicPr>
        <p:blipFill>
          <a:blip r:embed="rId1"/>
          <a:stretch/>
        </p:blipFill>
        <p:spPr>
          <a:xfrm>
            <a:off x="4648320" y="838080"/>
            <a:ext cx="4066920" cy="5489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2120" y="403848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Urinary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Urina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iminates excess water, salts, and waste produc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243972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Urinary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200400" y="2057400"/>
          <a:ext cx="4876920" cy="3902040"/>
        </p:xfrm>
        <a:graphic>
          <a:graphicData uri="http://schemas.openxmlformats.org/drawingml/2006/table">
            <a:tbl>
              <a:tblPr/>
              <a:tblGrid>
                <a:gridCol w="2400480"/>
                <a:gridCol w="2476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dne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inary 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h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01_02kOrgSysMaleReprod_L.jpg"/>
          <p:cNvPicPr/>
          <p:nvPr/>
        </p:nvPicPr>
        <p:blipFill>
          <a:blip r:embed="rId1"/>
          <a:stretch/>
        </p:blipFill>
        <p:spPr>
          <a:xfrm>
            <a:off x="3962520" y="609480"/>
            <a:ext cx="4680000" cy="5488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3520" y="3581280"/>
            <a:ext cx="3047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ale Reproduc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productiv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ces sex cells and horm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28972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Male Reproduc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429000" y="1981080"/>
          <a:ext cx="5334120" cy="4332240"/>
        </p:xfrm>
        <a:graphic>
          <a:graphicData uri="http://schemas.openxmlformats.org/drawingml/2006/table">
            <a:tbl>
              <a:tblPr/>
              <a:tblGrid>
                <a:gridCol w="2701800"/>
                <a:gridCol w="26323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ory Org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pididy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tus deferens (sperm du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inal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tate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h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Gen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ro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01_02lOrgSysFemaleReprod_L.jpg"/>
          <p:cNvPicPr/>
          <p:nvPr/>
        </p:nvPicPr>
        <p:blipFill>
          <a:blip r:embed="rId1"/>
          <a:stretch/>
        </p:blipFill>
        <p:spPr>
          <a:xfrm>
            <a:off x="4267080" y="533520"/>
            <a:ext cx="4388040" cy="5483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Female Reproduc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8972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Female Reproduc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657600" y="1905120"/>
          <a:ext cx="5105520" cy="4114800"/>
        </p:xfrm>
        <a:graphic>
          <a:graphicData uri="http://schemas.openxmlformats.org/drawingml/2006/table">
            <a:tbl>
              <a:tblPr/>
              <a:tblGrid>
                <a:gridCol w="2701800"/>
                <a:gridCol w="24037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erine Tu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e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g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Gen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mmary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99036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meostatic Reg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fers to the adjustments in physiological systems that preserve homeosta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ensitive to a particular environmental change 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receives and processes information from the re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responds to the commands of the control center and whose activity opposes or reinforces the stim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ga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imulus produces a response that opposes the original stimul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:  your temperature rises due to exercise, as a result your body compensates by increasing blood flow at the body surface releasing heat, and by evaporation of swe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p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create more generations of similar organis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are capable of both internal (Ex: blood) and external (Ex: walking) mov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imulus produces a response that reinforces the original stimul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involved in the regulation of a potentially dangerous or stressful process that must be completed quic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:  Immediate danger from a severe cut is blood lo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mage to the cells in the cut blood vessel wall releases chemicals that begin a multistep process of blood clotting.  Each step releases chemicals that accelerate the pro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-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es and Se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lice through a 3-D object can be described with reference to three primary sectional plan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verse pla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ontal pla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gittal pla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ransverse Plan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es at right angles to the long (head-to-foot) axis of the body, dividing the body int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up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nf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  A cut in this plane is called a transverse section, or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Frontal Plan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oronal plan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runs along the long axis of the body.  The frontal plane extends laterally (side to side), dividing the body int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ost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Sagittal Plan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ns along the long axis of the body, but it extends anteriorly and posteriorly (front to back).  A sagittal plane divides the body into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  A cut that passes along the body’s midline and divides the body into left and right halves is 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midsagittal sec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it doesn’t cut through the leg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01_09PlanesofSection_L.jpg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4831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8600" y="5029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es of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face Anatom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Landmar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Reg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Dir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Landmark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anatomical illustrations show the human form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tomical pos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ith the hands at the sides with the palms facing forward, and the feet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erson lying down in the anatomical position is said to b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face up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face 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" descr="01_06aAnatomLandmrkAntr_L.jpg"/>
          <p:cNvPicPr/>
          <p:nvPr/>
        </p:nvPicPr>
        <p:blipFill>
          <a:blip r:embed="rId1"/>
          <a:stretch/>
        </p:blipFill>
        <p:spPr>
          <a:xfrm>
            <a:off x="1219320" y="228600"/>
            <a:ext cx="7075440" cy="5481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38280" y="6019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atomical Landmarks: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ers to all of the chemical operations under way in the bo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generates unneeded or potentially harmful waste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iminated by process of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excre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" descr="01_06bAnatomLandmrkPost_L.jpg"/>
          <p:cNvPicPr/>
          <p:nvPr/>
        </p:nvPicPr>
        <p:blipFill>
          <a:blip r:embed="rId1"/>
          <a:stretch/>
        </p:blipFill>
        <p:spPr>
          <a:xfrm>
            <a:off x="1371600" y="228600"/>
            <a:ext cx="7277040" cy="5483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4320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atomical Landmarks: 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Region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used in conjunction with landmarks to describe a general area of interest or inj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methods are used to map the surface of the abdomen and pelv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bdominopelvic quardra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ves a general location of p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bdominopelvic reg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d to describe the location and orientation of internal org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" descr="01_07aAbdominopelvic_L.jpg"/>
          <p:cNvPicPr/>
          <p:nvPr/>
        </p:nvPicPr>
        <p:blipFill>
          <a:blip r:embed="rId1"/>
          <a:stretch/>
        </p:blipFill>
        <p:spPr>
          <a:xfrm>
            <a:off x="917640" y="457200"/>
            <a:ext cx="8226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01_07bAbdominopelvic_L.jpg"/>
          <p:cNvPicPr/>
          <p:nvPr/>
        </p:nvPicPr>
        <p:blipFill>
          <a:blip r:embed="rId1"/>
          <a:stretch/>
        </p:blipFill>
        <p:spPr>
          <a:xfrm>
            <a:off x="314280" y="380880"/>
            <a:ext cx="882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natomical Terms:  Dire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01_08-DirectionalRef_L.jpg"/>
          <p:cNvPicPr/>
          <p:nvPr/>
        </p:nvPicPr>
        <p:blipFill>
          <a:blip r:embed="rId1"/>
          <a:stretch/>
        </p:blipFill>
        <p:spPr>
          <a:xfrm>
            <a:off x="1447920" y="990720"/>
            <a:ext cx="65181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01_T02DirectionalTerms_T.jpg"/>
          <p:cNvPicPr/>
          <p:nvPr/>
        </p:nvPicPr>
        <p:blipFill>
          <a:blip r:embed="rId1"/>
          <a:stretch/>
        </p:blipFill>
        <p:spPr>
          <a:xfrm>
            <a:off x="642960" y="533520"/>
            <a:ext cx="8501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essential fun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y protect delicate organs from accidental shocks and cushion them from the jolting that occurs when we walk, jump, or r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y permit significant changes in the size and shape of internal org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01_10-VentralBodyCav_L.jpg"/>
          <p:cNvPicPr/>
          <p:nvPr/>
        </p:nvPicPr>
        <p:blipFill>
          <a:blip r:embed="rId1"/>
          <a:stretch/>
        </p:blipFill>
        <p:spPr>
          <a:xfrm>
            <a:off x="1219320" y="990720"/>
            <a:ext cx="7596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ntral Body Cav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.k.a. coel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organs of the respiratory, cardiovascular, digestive, urinary, and reproductiv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ubdivided by the diaphragm i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superi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oracic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 inferi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abdominopelvic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oracic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three internal cha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ricardial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wo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eural cavit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“a cutting ope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ies the internal and external structures and physical relationships between body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si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“the study of how living organisms perform their vital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oracic Cavit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cardial Cavity—contains the he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ural Cavities—each surround a 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Abdominopelvic Cav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s from the diaphragm to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divided int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erior abdominal cav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erior pelvic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itoneal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mber lined by a serous membrane known as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iton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dominal Ca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s from the inferior surface of the diaphragm to the level of the superior margins of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liver, stomach, spleen, small intestine, and most of the large intes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lvic Ca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ventral body cavity inferior to the abdominal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distal portion of the large intestine, urinary bladder, and reproductive org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24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oss anatom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24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scopic anatom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4:47:11Z</dcterms:created>
  <dc:creator>Administrator</dc:creator>
  <dc:description/>
  <dc:language>en-US</dc:language>
  <cp:lastModifiedBy>Administrator</cp:lastModifiedBy>
  <dcterms:modified xsi:type="dcterms:W3CDTF">2010-06-21T18:25:47Z</dcterms:modified>
  <cp:revision>39</cp:revision>
  <dc:subject/>
  <dc:title>Anatomy &amp; Physiology</dc:title>
</cp:coreProperties>
</file>